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5282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744C-B964-41D8-9EB0-28AF967D1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F539-EA29-4FDB-BB04-1792FE04A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The symbol definition directive assigns a symbolic name to an </a:t>
            </a: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. Often done to make the program more meaningful to a user. Also helps in code maintenance/up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BA62-E03F-4D93-89E4-898B669E9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A2B5-B599-4F83-B65F-86AA8BEE9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B340-0685-40E7-B8BD-B5D58B70D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C758-DFEF-4E1D-A170-896388092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7704-C32C-42D1-A0F7-5DBE9F164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These directives will initialize or reserve memory space in the form of a byte, a word, or a double word in the </a:t>
            </a:r>
            <a:r>
              <a:rPr b="0" lang="en-NZ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de space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37D0-9DC7-48E0-B4B0-2BEBC911F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Initializes code memory with a byt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54F0-A0F8-4F41-A9D7-378B38FF9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C9A9-73E6-431D-A259-63FCC7933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Initializes code memory with a double-byte value (16-bit dat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The DUP operator can be used to duplicate a sequence of memory cont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DF07-AA65-4F13-B352-203CF67ED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Initializes code memory with a double-word value (32-bit dat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3D25-B6DB-4435-92EA-C1410FD87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is lecture we will look at the various assembler directives. 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Assembler directives are special codes placed in the assembly language program to instruct the assembler to perform a particular task such as allocating memory for variables, changing register banks, defining symbol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D23B-59BF-4931-BD31-6C3B4E766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Reserves a specified number of byte space in the memory in the currently active seg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4B76-8574-46E4-90D6-5512AADB7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65C8-9F57-4380-ABC1-A613892B1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ssembly language program template is shown 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6BB3-9AF9-43B2-9BFE-291CEB311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28600" y="690480"/>
            <a:ext cx="460080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D782-3E1F-49F4-8742-AD1DC6D17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diagram shows the code generation flow for both assembly and C languages. Note the linker is the same because it deals with object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5C34-4044-4A80-8FE5-01E7442A2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Assembler directives </a:t>
            </a:r>
            <a:r>
              <a:rPr b="1" lang="en-NZ" sz="1200" spc="-1" strike="noStrike" u="sng">
                <a:solidFill>
                  <a:srgbClr val="000000"/>
                </a:solidFill>
                <a:uFillTx/>
                <a:latin typeface="Times New Roman"/>
              </a:rPr>
              <a:t>do not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 generate any machine code. There are four groups of assembler directives – Address Control, Symbol definition, Memory Reservation/Initialisation, and Segment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C752-A4EE-4A49-B0FA-7DC7EBA2D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A segment is a block of code or data memory. There are two types of segments – </a:t>
            </a: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B0C2-6F96-427B-8D2B-371956067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relocatable segment may be created using this dir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8839-6540-4BA8-81FD-32EC9DA6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489F-DE65-4F63-9AB1-CAFC873A7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The ORG directive sets the location counter to a specified offset address within the current segment. It can be used in Code and Data se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1D0A-29B4-42DE-9526-291FC88AC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The END directive indicates the end of the source file and informs the assembler where to stop assembling the program. It is a must in every source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640080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8080" y="5286600"/>
            <a:ext cx="640080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808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804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040" y="481788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06360" y="481788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8080" y="528660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040" y="528660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06360" y="528660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8080" y="481788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92280" y="401436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808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8080" y="481788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804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8080" y="5286600"/>
            <a:ext cx="640080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640080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8080" y="5286600"/>
            <a:ext cx="640080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808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804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040" y="481788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06360" y="481788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8080" y="528660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040" y="528660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06360" y="528660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2280" y="401436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808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804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8080" y="5286600"/>
            <a:ext cx="640080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61690"/>
          <a:stretch/>
        </p:blipFill>
        <p:spPr>
          <a:xfrm>
            <a:off x="0" y="6524640"/>
            <a:ext cx="9144000" cy="336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50760" y="6534000"/>
            <a:ext cx="36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0D99-B716-4AB4-A1E9-D6592EC2F116}" type="slidenum">
              <a:rPr b="0" lang="en-US" sz="1000" spc="-1" strike="noStrike">
                <a:solidFill>
                  <a:srgbClr val="255282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564320" y="5877000"/>
            <a:ext cx="14922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5282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979960"/>
            <a:ext cx="9144000" cy="878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416320" y="1306440"/>
            <a:ext cx="4322520" cy="2076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99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55282"/>
                </a:solidFill>
                <a:latin typeface="Arial Black"/>
              </a:rPr>
              <a:t>Lecture 6</a:t>
            </a: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8080" y="481788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mbler 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Symbol Defini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ymbol definition directive assigns a symbolic name to an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can be a constant number, an address reference or another symbolic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metimes it is an advantage to use a symbol to represent a value or a register because it makes the program more meaningful to a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other advantage is, by equating the symbol to a value, the user only needs to change it once at the directiv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rest of the statements that make a reference to the symbol will be updated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Symbol Definition—</a:t>
            </a:r>
            <a:r>
              <a:rPr b="1" lang="en-NZ" sz="2800" spc="-1" strike="noStrike">
                <a:solidFill>
                  <a:srgbClr val="ffffff"/>
                </a:solidFill>
                <a:latin typeface="Arial Black"/>
              </a:rPr>
              <a:t>EQU, S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format of the EQU and SET directive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QU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express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QU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regis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express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regis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s is similar to the “#define” macro definition i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can include simple mathematical operators like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‘+’, ’-‘, ‘ * ‘,  ‘/’, 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ncludes A, R0, R1, R2, R3, R4, R5, R6 and R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Symbol Definition—</a:t>
            </a:r>
            <a:r>
              <a:rPr b="1" lang="en-NZ" sz="2800" spc="-1" strike="noStrike">
                <a:solidFill>
                  <a:srgbClr val="ffffff"/>
                </a:solidFill>
                <a:latin typeface="Arial Black"/>
              </a:rPr>
              <a:t>EQU, S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COUNT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EQU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R3</a:t>
            </a:r>
            <a:r>
              <a:rPr b="1" lang="en-NZ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000000"/>
                </a:solidFill>
                <a:latin typeface="Courier New"/>
              </a:rPr>
              <a:t>;equate to a 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TOTAL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EQU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200</a:t>
            </a:r>
            <a:r>
              <a:rPr b="1" lang="en-NZ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000000"/>
                </a:solidFill>
                <a:latin typeface="Courier New"/>
              </a:rPr>
              <a:t>;equate to a cons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AVERG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SET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TOTAL/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TABLE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EQU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SET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TABLE*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5080" y="-360"/>
            <a:ext cx="965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Arial Black"/>
              </a:rPr>
              <a:t>Symbol Definition—CODE, DATA, IDATA, XDATA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5160" y="80964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ach of these directives assigns an address value to a symbol. The format of the directive is as follows: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bit_addres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code_addres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data_addres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DATA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idata_addres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XDATA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xdata_addres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bit_address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bit address  which is available from bit-addressable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ocation 00H through 7FH as an offset from byte location 2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code_address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code address ranging from 0000H to 0FFF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data_address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address is from 00H to 7FH (internal data memory) and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special function register address from 80H to 0F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idata_address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address is ranging from 00H to 0F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xdata_address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external data space ranging from 0000H to 0FFF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916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Arial Black"/>
              </a:rPr>
              <a:t>Symbol Definition—CODE, DATA, IDATA, XDATA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Act_bit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BIT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2EH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;Use bit location 2EH 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;as Act_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Port2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A0H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;A special function 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;register,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Memory Initialization/Reserv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irectives for memory initialization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reservation ar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se directives will initializ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reserve memory storage in the form of a byte, a word or a double word in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d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irective to reserve memory without initialization is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s directive will reserve specified number of bytes in the curren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DB (Define Byt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B directive initializes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de memor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with a by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irective has the following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label&gt;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&gt;, &lt;expression&gt;,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the starting address where the byte values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re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the byte value, it can be a character string, a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ymbol,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an 8-bit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DB (Define Byt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  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CSEG AT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2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MSG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  DB ‘Please enter your password’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ARRAY:  DB 10H,20H,30H,40H,5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above string of characters will be stored as ASCII bytes starting from location 200H, which means location [200H]=50H, [201H]=6CH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otice that the DB directive can only be declared in a code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f it is defined in a different segment, the assembler will generate 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DW (Define Word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DW directive initializes the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de memory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with a double byte or a 16-bit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directive has the following form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label&gt;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pression&gt;, &lt;expression&gt;,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2 word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  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CNTVAL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W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1025H, 234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10 values of 1234H starting from location X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  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XLOC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W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10 DUP (1234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DUP operator can be used to duplicate a sequence of memory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DW directive can only be used in the code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f it is defined in other segments, the assembler will give an 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rror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DD (Define Double Word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D directive initializes th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de memor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with double word or 32-bit data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irective has the following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label&gt;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&gt;, &lt;expression&gt;,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ADDR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D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820056EFH, 1020304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EMPT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D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3 DUP ( 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ame as the DB and DW directives, DD can only be specified in the code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f it is declared in other segment it risks having error message generated by the assem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Assembler Directiv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de gener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ssembler directive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gmen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Generic segment (SEGMENT, RS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bsolute segment (CSEG, DSEG and XS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ddr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G, USING,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ymbol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QU, SET, CODE, DATA, IDATA, X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mory initialization/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B, DW, DD,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ample program templ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DS (Define Storag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S directive reserves a specified number of bytes in the curren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 can only be used in the currently active segment like CSEG, ISEG, DSEG or X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S directive has the following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&lt;label&gt;: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an not contain forward references, relocatable symbols or external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DS (Define Storag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8280" y="766800"/>
            <a:ext cx="8683920" cy="6019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XSEG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AT 1000H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select memory block from 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external memory, starting 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address from 1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Input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S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16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 reserve 16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Wavetyp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S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1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 reserve 1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location counter of the segment is incremented by one byte every time the DS statement is encountered in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programmer should be aware that no more than 16 byte values should be entered starting from the address ‘Input’ as shown in the above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otice that the bytes are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not initialize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just 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Example Program Templ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$include (c8051f020.inc)  ;Include register definition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EQU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CR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EQU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0DH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   ;Set CR (carriage return) to 0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RESET and INTERRUPT VECTORS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Reset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CSEG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AT 0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Jump to the start of code 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LJMP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the reset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Timer 4 Overflow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ORG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83h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Jump to the start of code 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LJMP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TIMER4INT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the Timer4 Interrupt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DATA SE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MYDATA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SEGMENT 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RSEG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MYDATA  ; Switch to this data seg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ORG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30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Input: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DS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temp: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DS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Example Program Templ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CODE SE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MYCODE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SEGMENT 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RSEG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MYCODE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; Switch to this code se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0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; Specify register ban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for main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Main: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Insert Main Routine of progra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Timer 4 Interrupt Service Rou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TIMER4INT: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Insert Timer 4 ISR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R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Global Con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Rdm_Num_Table: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DB   05eh, 0f0h, 051h, 0c9h, 0aeh, 020h, 087h, 080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DB   092h, 01ch, 079h, 075h, 025h, 07ch, 02bh, 047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End of fi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5282"/>
                </a:solidFill>
                <a:latin typeface="Arial Black"/>
              </a:rPr>
              <a:t>www.silabs.com/MCU</a:t>
            </a: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8080" y="481788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ode Generation 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189080" y="949320"/>
            <a:ext cx="2743200" cy="712800"/>
          </a:xfrm>
          <a:prstGeom prst="rect">
            <a:avLst/>
          </a:prstGeom>
          <a:solidFill>
            <a:srgbClr val="eafa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90520" y="3103560"/>
            <a:ext cx="2762280" cy="712800"/>
          </a:xfrm>
          <a:prstGeom prst="rect">
            <a:avLst/>
          </a:prstGeom>
          <a:solidFill>
            <a:srgbClr val="eafa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1643040"/>
            <a:ext cx="9360" cy="38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79760" y="2720880"/>
            <a:ext cx="9360" cy="38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7920" y="2017800"/>
            <a:ext cx="2873520" cy="7318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83040" y="941400"/>
            <a:ext cx="2743200" cy="712800"/>
          </a:xfrm>
          <a:prstGeom prst="rect">
            <a:avLst/>
          </a:prstGeom>
          <a:solidFill>
            <a:srgbClr val="eafa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84840" y="3095640"/>
            <a:ext cx="2762280" cy="712800"/>
          </a:xfrm>
          <a:prstGeom prst="rect">
            <a:avLst/>
          </a:prstGeom>
          <a:solidFill>
            <a:srgbClr val="eafa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4479840"/>
            <a:ext cx="3009960" cy="7318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67000" y="5540400"/>
            <a:ext cx="2762280" cy="712800"/>
          </a:xfrm>
          <a:prstGeom prst="rect">
            <a:avLst/>
          </a:prstGeom>
          <a:solidFill>
            <a:srgbClr val="eafa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1635120"/>
            <a:ext cx="9720" cy="38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73720" y="2712960"/>
            <a:ext cx="9720" cy="38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19440" y="5229360"/>
            <a:ext cx="0" cy="32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1880" y="2009880"/>
            <a:ext cx="2873520" cy="7318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06760" y="3813120"/>
            <a:ext cx="722160" cy="795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622480" y="3803760"/>
            <a:ext cx="668520" cy="76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Assembler Directives—Introduc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ssembler Directives are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ssembly language instructions as they do not generate any machin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y are special codes placed in the assembly language program to instruct the assembler to perform a particular task o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y can be used to define symbol values, reserve and initialize storage space for variables and control the placement of the program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ssembler directives are typically specific to a particular assembler. We will be using the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Keil A51 Assembler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in this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ASM directives are grouped into the following catego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egmen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dr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ymbol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emory initialization/re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Segment Contro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 x51 CPU structure, a contiguous block of code or data memory is usually referred to as a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 function definition (code mem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 array (data mem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wo type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f segments based on whether or not they are reloc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reloca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of the two types of segments can be specified as one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ve memory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DE, DATA, IDATA, XDATA, BDATA/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Generic (Relocatable) Seg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Generic segments are created using the SEGMENT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final memory location for a generic segment is assigned by the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format is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&lt;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EGMEN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egment_memory_class&gt;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MYDATA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SEGMENT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above directive defines a relocatable segment named as MYDATA, with a memory clas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Once the above segment name has been defined, the next step is to select that segment by using the RSEG directive as shown in the example be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RSEG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MY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henever the above statement is encountered, the MYDATA segment will become the current active segment until the assembler comes across another RSEG directive, which will then define another segmen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Absolute Seg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0720" y="885960"/>
            <a:ext cx="8661240" cy="5300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bsolute segment means a fixed memory segment. Absolute segments are created by CSEG, DSEG and XSEG direc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final location of the segment is known at compi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format of this directive is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SE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T &lt;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ddress&gt;  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; defines an absolute code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SE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T &lt;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ddress&gt;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; defines an absolute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XSE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T &lt;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ddress&gt;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; defines an absolute external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CSEG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AT  0300H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select code segment and set 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the starting address at 03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SEG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AT  0400H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select data segment and set 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the starting address at 04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Address Control—OR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6800" y="70956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specified format for the ORG directiv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ORG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lang="en-NZ" sz="1800" spc="-1" strike="noStrike">
                <a:solidFill>
                  <a:srgbClr val="000000"/>
                </a:solidFill>
                <a:latin typeface="Courier New"/>
              </a:rPr>
              <a:t>express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5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ORG directive is used to set the location counter in the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current segmen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to an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offset addres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pecified by the 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5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ever, it does not alter the segment address. The segment address can only be changed by using the standard segment direc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5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0" lang="en-NZ" sz="18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ORG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80H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;Set location counter to 8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5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ORG directive need not only be used in the code segment but can be used in other segments like the data segment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5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or example, to reserve one byte memory space each at locations SECONDS and MINUTES in the data segment, we would wr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DSEG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;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ORG 3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SECONDS: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DS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MINUTES: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DS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Address Control—E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pecified format for the directiv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END directive indicates the end of the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 informs the assembler where to stop assembling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ence any text that appears after the END directive will be ignored by the assem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END directive is required in every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f it is not written at the end of the program, the assembler will generate an erro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34:57Z</dcterms:created>
  <dc:creator>Corporate Employee</dc:creator>
  <dc:description/>
  <dc:language>en-US</dc:language>
  <cp:lastModifiedBy>erwalker</cp:lastModifiedBy>
  <cp:lastPrinted>2007-06-27T20:58:33Z</cp:lastPrinted>
  <dcterms:modified xsi:type="dcterms:W3CDTF">2007-09-13T18:41:14Z</dcterms:modified>
  <cp:revision>20</cp:revision>
  <dc:subject/>
  <dc:title>Lecture 4</dc:title>
</cp:coreProperties>
</file>